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5EE-EC43-4AA8-9C1E-329435D1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F29-BBBC-4212-8168-A65AA2F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526-B00D-4DBB-BE75-F0D398BF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E64-C3BF-4440-A622-60650094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EFF-E66D-4495-8069-819DAFCF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47C-06AC-474D-BC43-8230A6E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501-73D5-44F6-B176-7FA75018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5B4-48D8-40A7-A1F0-D6A3396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B2F-B162-4E1C-8713-C16284C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864-BD4E-490E-B8AF-54DC79CE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18A-08C5-4719-8A64-3873373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FC2-6ADB-4D30-88ED-28FC3EE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200E-03C5-491B-B6E5-9AD17C58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4:39:16Z</dcterms:created>
  <dc:creator>Partners Information Systems</dc:creator>
  <dc:description/>
  <dc:language>en-US</dc:language>
  <cp:lastModifiedBy>Partners Information Systems</cp:lastModifiedBy>
  <dcterms:modified xsi:type="dcterms:W3CDTF">2008-04-29T14:39:38Z</dcterms:modified>
  <cp:revision>1</cp:revision>
  <dc:subject/>
  <dc:title>Slide 1</dc:title>
</cp:coreProperties>
</file>